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A356-7319-42FE-A749-CC262CF5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CF20-8757-46E6-911A-2E086499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EC31-7E5A-4420-935D-BE8BC977C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F495-E42D-4250-BBA4-F742F8F50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66D9-2E4D-477A-923C-8C7F68B2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A623-79F8-45D3-BE9A-10AE9CA1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46CD-DB9A-4E07-A2C4-E7677DF3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26D5-0196-4E97-A081-A9DDBB3D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B8AB-7EB5-44A4-8855-CBA98B44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4E9B-298A-41ED-890E-B9080605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C1E0-2646-404D-AC0A-13DFF6E5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062C-A907-43E3-9381-91A0CEAA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40FF-CAF6-420D-9EBE-D79917223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AI Implementation Notes for LTRS, NACA and Open Vide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hael L. Nel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SA Langley Research Center 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 of North Caro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ln@ils.unc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ttp://www.ils.unc.edu/~ml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AI Open Meeting, Washington DC, January 23,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0A200" descr=""/>
          <p:cNvPicPr/>
          <p:nvPr/>
        </p:nvPicPr>
        <p:blipFill>
          <a:blip r:embed="rId1"/>
          <a:stretch/>
        </p:blipFill>
        <p:spPr>
          <a:xfrm>
            <a:off x="3581280" y="5334120"/>
            <a:ext cx="1905120" cy="1333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638680" y="5257800"/>
            <a:ext cx="1354320" cy="1447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286000" y="5257800"/>
            <a:ext cx="121932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2 Load Balan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ve users on main DL machine should not be impacted by metadata harv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take deliveries through the front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7400" y="2971800"/>
            <a:ext cx="4566600" cy="1632600"/>
            <a:chOff x="4577400" y="2971800"/>
            <a:chExt cx="4566600" cy="1632600"/>
          </a:xfrm>
        </p:grpSpPr>
        <p:sp>
          <p:nvSpPr>
            <p:cNvPr id="133" name=""/>
            <p:cNvSpPr/>
            <p:nvPr/>
          </p:nvSpPr>
          <p:spPr>
            <a:xfrm>
              <a:off x="5105520" y="4114800"/>
              <a:ext cx="99036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5520" y="3429000"/>
              <a:ext cx="99036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5105520" y="35812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095880" y="35812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105520" y="3124080"/>
              <a:ext cx="106560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81840" y="3124080"/>
              <a:ext cx="91368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58160" y="3657600"/>
              <a:ext cx="646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7400" y="4267080"/>
              <a:ext cx="203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aca.larc.nasa.gov/oai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47800" y="3116160"/>
              <a:ext cx="2801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f load &gt; 0.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redirect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48520" y="2971800"/>
              <a:ext cx="28954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654800" y="4800600"/>
            <a:ext cx="2997000" cy="1480320"/>
            <a:chOff x="4654800" y="4800600"/>
            <a:chExt cx="2997000" cy="1480320"/>
          </a:xfrm>
        </p:grpSpPr>
        <p:sp>
          <p:nvSpPr>
            <p:cNvPr id="144" name=""/>
            <p:cNvSpPr/>
            <p:nvPr/>
          </p:nvSpPr>
          <p:spPr>
            <a:xfrm>
              <a:off x="5562720" y="5105520"/>
              <a:ext cx="99036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62720" y="5791320"/>
              <a:ext cx="99036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562720" y="52574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553080" y="52574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5562720" y="4800600"/>
              <a:ext cx="106560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9040" y="4800600"/>
              <a:ext cx="91368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15360" y="5334120"/>
              <a:ext cx="646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54800" y="5943600"/>
              <a:ext cx="299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uckets.dsi.internet2.edu/naca/oai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04920" y="3657600"/>
            <a:ext cx="1447560" cy="609480"/>
            <a:chOff x="304920" y="3657600"/>
            <a:chExt cx="1447560" cy="609480"/>
          </a:xfrm>
        </p:grpSpPr>
        <p:sp>
          <p:nvSpPr>
            <p:cNvPr id="153" name=""/>
            <p:cNvSpPr/>
            <p:nvPr/>
          </p:nvSpPr>
          <p:spPr>
            <a:xfrm>
              <a:off x="380520" y="3733920"/>
              <a:ext cx="13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arves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4920" y="3657600"/>
              <a:ext cx="144756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752480" y="3581280"/>
            <a:ext cx="3200400" cy="304920"/>
            <a:chOff x="1752480" y="3581280"/>
            <a:chExt cx="3200400" cy="304920"/>
          </a:xfrm>
        </p:grpSpPr>
        <p:sp>
          <p:nvSpPr>
            <p:cNvPr id="156" name=""/>
            <p:cNvSpPr/>
            <p:nvPr/>
          </p:nvSpPr>
          <p:spPr>
            <a:xfrm>
              <a:off x="1752480" y="388620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9480" y="3581280"/>
              <a:ext cx="1826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http://blah/oai/?verb=ListIdentifier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828800" y="4038480"/>
            <a:ext cx="3276720" cy="231120"/>
            <a:chOff x="1828800" y="4038480"/>
            <a:chExt cx="3276720" cy="231120"/>
          </a:xfrm>
        </p:grpSpPr>
        <p:sp>
          <p:nvSpPr>
            <p:cNvPr id="159" name=""/>
            <p:cNvSpPr/>
            <p:nvPr/>
          </p:nvSpPr>
          <p:spPr>
            <a:xfrm flipH="1">
              <a:off x="1828800" y="426708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70360" y="4038480"/>
              <a:ext cx="1250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HTTP Status Code 30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371600" y="4267080"/>
            <a:ext cx="4114800" cy="1067040"/>
            <a:chOff x="1371600" y="4267080"/>
            <a:chExt cx="4114800" cy="1067040"/>
          </a:xfrm>
        </p:grpSpPr>
        <p:sp>
          <p:nvSpPr>
            <p:cNvPr id="162" name=""/>
            <p:cNvSpPr/>
            <p:nvPr/>
          </p:nvSpPr>
          <p:spPr>
            <a:xfrm>
              <a:off x="1371600" y="4267080"/>
              <a:ext cx="411480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56520" y="4724280"/>
              <a:ext cx="1826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http://blah/oai/?verb=ListIdentifier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218960" y="4419720"/>
            <a:ext cx="4267080" cy="1694160"/>
            <a:chOff x="1218960" y="4419720"/>
            <a:chExt cx="4267080" cy="1694160"/>
          </a:xfrm>
        </p:grpSpPr>
        <p:sp>
          <p:nvSpPr>
            <p:cNvPr id="165" name=""/>
            <p:cNvSpPr/>
            <p:nvPr/>
          </p:nvSpPr>
          <p:spPr>
            <a:xfrm flipH="1" flipV="1">
              <a:off x="1218960" y="4419720"/>
              <a:ext cx="42670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81800" y="5334120"/>
              <a:ext cx="21924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&lt;?xml version=“1.0” encoding=“UTF-8”?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&lt;ListIdentifiers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&lt;/ListIdentifiers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adata Qu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is very brittle – 1 bad character in the metadata and an entire ListIdentifiers mesg can be dama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, my DLs should be more diligent about scrubbing their metadata, bu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 contributed metadata particularly a problem (e.g. control characters from copy-n-pas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dvantage of resumptionToken is that it compartmentalizes ba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AI Imp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OAI to build our own generalize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s, ale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 have a clean method to export metadata, both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eneral community for unrestrict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d communities with restrict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Alamos, Air Force Research Laboratory, N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s Repres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TRS (Langley Technical Report Ser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2300 reports, begun in 19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techreports.larc.nasa.gov/ltr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AI: http://techreports.larc.nasa.gov/ltrs/oa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A (National Advisory Committee for Aeronaut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CA was the predecessor organization to NASA, operating from 1917-19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6300 reports, begun in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naca.larc.nasa.gov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AI: http://naca.larc.nasa.gov/oa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s Repres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North Carol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pen Video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 200 public domain video segments, project begun in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open-video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AI: http://buckets.dsi.internet2.edu/openvideo/oai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Video contents and OAI services still strictly experi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SA: Why is OAI Importa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SA builds DLs out of necessity, but ultimately NASA i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blis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ted in maximum exposure of and accessibility to its “unrestricted, unlimited” con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NASA DLs, we left our “dark matter” partially expo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 reports were spidered by robots any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AI provides a more formal interface &amp; protocol for exposing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C: Why is OAI Importa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s to grow Open Video into a TREC-like corpus for video segments to share with the research commun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tandard collection of short (10 seconds – 1 hour) video segments on which to perform video content based retri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ility in video types: color/b&amp;w, sound/no sound, high/low motion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in MPEG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s formats in the fu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AI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 only specifies CGI stu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implementation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used a “bucket” for each: LTRS, NACA &amp; Open Vid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ckets are aggregative, computational entities normally used for data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, 1 bucket per “repor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ckets = metadata + data +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AI Bucket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99560" y="1114560"/>
            <a:ext cx="61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5640" y="2403360"/>
            <a:ext cx="981720" cy="27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method.p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84240" y="2403360"/>
            <a:ext cx="762120" cy="27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http.p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74600" y="2403360"/>
            <a:ext cx="719280" cy="27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log.p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89720" y="2403360"/>
            <a:ext cx="633960" cy="27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tc.p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22120" y="3774960"/>
            <a:ext cx="719280" cy="27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md.p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66200" y="3774960"/>
            <a:ext cx="803160" cy="27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state.p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7920" y="267336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92800" y="2736720"/>
            <a:ext cx="794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 f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60560" y="2736720"/>
            <a:ext cx="790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pende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74960" y="267336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26880" y="2813040"/>
            <a:ext cx="39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1640" y="267336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56040" y="267336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2840" y="404496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32160" y="404496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40560" y="2736720"/>
            <a:ext cx="7117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r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75480" y="4108320"/>
            <a:ext cx="640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70040" y="4108320"/>
            <a:ext cx="521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ck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2139840"/>
            <a:ext cx="4254480" cy="2882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83640" y="5153040"/>
            <a:ext cx="1643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efault bucket pack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81480" y="2139840"/>
            <a:ext cx="3492720" cy="28893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88920" y="5105520"/>
            <a:ext cx="2987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ucket payload is DL specific support libra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23960" y="1571760"/>
            <a:ext cx="743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x.c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717800" y="1371600"/>
            <a:ext cx="612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514600" y="1828440"/>
            <a:ext cx="21207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4717800" y="1828440"/>
            <a:ext cx="2514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15360" y="2409840"/>
            <a:ext cx="367200" cy="27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81680" y="267984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22440" y="2743200"/>
            <a:ext cx="19537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ai.pl element is a support 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at defines access for the specific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7280" y="5638680"/>
            <a:ext cx="3763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 addition to the ~ 30 bucket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ach OAI verb is implemented as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eparate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26668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CA OAI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0040" y="2286000"/>
            <a:ext cx="20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CA fil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647960" y="269388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2693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2693880"/>
            <a:ext cx="21337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0760" y="34560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34560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34560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360" y="34560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733560" y="39132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391320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3913200"/>
            <a:ext cx="12189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6040" y="4522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91680" y="4522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7040" y="457200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ca-tn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123720" y="495288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49528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4952880"/>
            <a:ext cx="15242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14960" y="5638680"/>
            <a:ext cx="109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5120" y="5638680"/>
            <a:ext cx="121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umbn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3760" y="5638680"/>
            <a:ext cx="99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ll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4876920"/>
            <a:ext cx="32004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33600" y="571500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x.c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1676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8880" y="129528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rmal WWW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1752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3200" y="1371600"/>
            <a:ext cx="13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AI requ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2819520"/>
            <a:ext cx="99072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3505320"/>
            <a:ext cx="99072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914400" y="2971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905120" y="2971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914400" y="2514600"/>
            <a:ext cx="10663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91080" y="2514600"/>
            <a:ext cx="91368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7040" y="3048120"/>
            <a:ext cx="64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3505320"/>
            <a:ext cx="1828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3581280"/>
            <a:ext cx="12952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56560" y="2743200"/>
            <a:ext cx="2001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AI responses bui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m examining 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NACA file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6960" y="4648320"/>
            <a:ext cx="2259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TRS, NACA, Open Video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ifferent file structures, metada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ormats,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648320"/>
            <a:ext cx="2210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not implement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ible set candidate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A: years, repor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TRS: NASA STI subject 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supporting Dublin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C not sufficient for targeted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not implement resumptionT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9T18:37:37Z</dcterms:created>
  <dc:creator>officepc</dc:creator>
  <dc:description/>
  <dc:language>en-US</dc:language>
  <cp:lastModifiedBy>B. Danette Allen</cp:lastModifiedBy>
  <dcterms:modified xsi:type="dcterms:W3CDTF">2001-01-21T21:19:07Z</dcterms:modified>
  <cp:revision>11</cp:revision>
  <dc:subject/>
  <dc:title>OAI Implementation Notes for LTRS, NACA and Open Video</dc:title>
</cp:coreProperties>
</file>